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2481-9FE0-4532-9EF2-E67812352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BCC6-FCDF-405C-92D9-99B9A6D33E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1FB7-3427-4F6A-9885-6A6FFF0A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91DC-4377-4173-977E-35EFC142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4C1-BB83-4182-8497-AE12B0D8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DB84-4B91-4FA3-95DB-F69C478D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85CB-6463-456E-A635-5449D3F8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7C98-05BB-4D55-BFC0-453EAAC6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9520-8865-4A7E-949B-315D6A66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49DD-E67A-4785-9233-9CBD6262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9AB5-5178-4E5C-A130-D09ADF33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3334-7777-49E8-9967-F34DDD41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03DA-B290-4973-8162-21394EEE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AA0-A1D1-4FDA-A4D4-3CF20708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90A6-4E9B-4B72-8117-2336ADD0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D04F-1501-475B-881F-56FB96B4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BF61-A68F-4BEF-A023-B4988B27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F176-2D43-40B8-A751-F0E92302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CA05-7FB9-410D-A6A2-BE028E55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05A83-F786-431D-821D-B90EA978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99CF5-4A1C-4520-A78E-687B5711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3FB20-7C2F-4402-AB81-92A53F6F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3A048-85E0-4E71-A2BD-9674B94D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8E166-1486-41B1-8246-069D8123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4AFC-193E-4CF2-B23C-1108CB10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E9AF2-15CF-4691-B26B-ED990240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800A5-FEEE-4EEE-84D3-5E492E60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12C0E-5F9B-47C6-93F4-C7659FD5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EA66E-5128-4646-B52D-9DDAD131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E9498-7015-4C65-9AD6-061684D9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8F5AD-A8FE-44FD-AE13-109F1000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16A7D-B5F7-4F16-96D1-BAAF018E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D0573-08BD-470E-8F77-B7A15A8B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81112-28EE-454E-9BE9-A13ADC99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A8036-77DC-44D1-9817-53DDE92B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AD4B-A3C9-481A-A8F3-CBF5EF39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E7FC3-AF5B-4774-BE23-70C02F22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0F0C6-7CFE-4905-A852-9193AB3D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CC86B-3F0E-488F-A77E-22170128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F4932-BA4F-4064-9C80-D99FAD94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67231-9250-44AF-8422-645EC1D2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76F43-197E-465F-BC37-E04005C0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BA0B6-A0FA-49DF-BD12-AFAE6ECE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8D06D-277C-4CE6-9A6D-E287AD6A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AB651-D45D-4F5F-A69E-FD08A414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74D-7E98-4AB4-8230-4003CF2B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8F8-DE36-4520-B6ED-14C48C17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EAAC-9B80-44F8-B73C-802C13A6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6CB1-2520-49AA-9835-B3FDE037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210-DFE5-4F77-A5DC-3658A59C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F844-28A8-4601-8F18-EA52D980961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4F90-3641-4BA6-A605-E117D07CBBB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E25D-5241-4E53-84BB-A0A37E945C5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2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D211-F0DF-45F0-BBB2-6ADBEE558E2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ahUKEwjUkJTLpLnVAhXKbhQKHVAjBCQQjRwIBw&amp;url=http%3A%2F%2Fwww.easybiologyclass.com%2Fhardy-weinberg-equilibrium-population-evolutionary-genetics%2F&amp;psig=AFQjCNFR5waFI5_ki-ww22bnC_jzu2yntA&amp;ust=1501788548613038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ahUKEwiHv62CprnVAhWH0RQKHbviDBUQjRwIBw&amp;url=http%3A%2F%2Fwww.biologyexams4u.com%2F2011%2F12%2Fpopulation-genetics-hardy-weinberg-law.html&amp;psig=AFQjCNFR5waFI5_ki-ww22bnC_jzu2yntA&amp;ust=1501788548613038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ahUKEwiXltu_prnVAhWlBsAKHS4_BGUQjRwIBw&amp;url=http%3A%2F%2Fwww.bio.miami.edu%2Fdana%2F250%2F250SS13_18.html&amp;psig=AFQjCNFR5waFI5_ki-ww22bnC_jzu2yntA&amp;ust=1501788548613038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ecec0c"/>
                </a:solidFill>
                <a:latin typeface="Arial"/>
              </a:rPr>
              <a:t>15. ПОПУЛАЦИОНА ГЕНЕТИК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000000"/>
                </a:solidFill>
                <a:uFillTx/>
                <a:latin typeface="Arial"/>
              </a:rPr>
              <a:t>Биохемијске одлик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лектрофорезом је показано да је код чове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28% гена полиморф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72% гена мономорф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6,7% се налази у хетерозиготном стањ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Хромозомски полиморфизам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 су промене у структури хромозома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које немају патолошке последице по носио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акве с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ужина центромерног регио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личина Y хромозо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личина и присуство сателита на акроцентричним хромозоми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рагилна места (изузетак је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fra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верзије хромозома (по неким ауторим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Hardy-Weinbergov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правило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је основа популационе генетике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4000" y="24681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глески матема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ар Har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мачки лекар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Weinberg  (190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популацији пост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 алела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 A 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 алела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 a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то код јединки оба по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800" spc="-1" strike="noStrike">
                <a:solidFill>
                  <a:srgbClr val="000000"/>
                </a:solidFill>
                <a:latin typeface="Times New Roman"/>
              </a:rPr>
              <a:t>Учесталости генских алела и генотипова у  популацији</a:t>
            </a: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17" name="Picture 35" descr="Image result for hardy weinberg im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844640"/>
            <a:ext cx="496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64072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 u="sng">
                <a:solidFill>
                  <a:srgbClr val="ff0000"/>
                </a:solidFill>
                <a:uFillTx/>
                <a:latin typeface="Arial"/>
              </a:rPr>
              <a:t>Hardi-Vajnbergov </a:t>
            </a:r>
            <a:r>
              <a:rPr b="1" lang="sr-CS" sz="3800" spc="-1" strike="noStrike" u="sng">
                <a:solidFill>
                  <a:srgbClr val="ff0000"/>
                </a:solidFill>
                <a:uFillTx/>
                <a:latin typeface="Arial"/>
              </a:rPr>
              <a:t>закон</a:t>
            </a:r>
            <a:r>
              <a:rPr b="1" lang="sr-CS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50920" y="1773000"/>
            <a:ext cx="864216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sr-R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АА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2pq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sr-Latn-C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2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 (100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р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пулација одр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жав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воју генет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у структуру </a:t>
            </a: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равнотежу)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приликом прелаза из једне генерације у друг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Фреквeнца генотипова у генерацији потомака зависи од фреквенце генских алела у родитељск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ј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генерацији</a:t>
            </a:r>
            <a:r>
              <a:rPr b="0" lang="sr-Latn-CS" sz="26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Image result for hardy weinberg im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260280"/>
            <a:ext cx="1641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реквенца хетерозигота (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pq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r-RS" sz="4000" spc="-1" strike="noStrike">
                <a:solidFill>
                  <a:srgbClr val="000000"/>
                </a:solidFill>
                <a:latin typeface="Arial"/>
              </a:rPr>
              <a:t> у популацији у равнотежи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2060280"/>
            <a:ext cx="446544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аксимална је 0,5 или 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оже да буде већа од фреквенц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једног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хомозигота, али никада није већа од збира хомозигот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2p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/&lt;p2+q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ксимална је кадa је фреквенцa aлeл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днака фреквенц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ела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q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Image result for hardy weinberg im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2276640"/>
            <a:ext cx="3914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а би популација одржала своју генетичку структуру (равнотежу)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5280" y="249228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требно је да следећи услови буду задовољен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а нема миграциј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а популација остане у панмиксиј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а нема мутациј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000000"/>
                </a:solidFill>
                <a:uFillTx/>
                <a:latin typeface="Arial"/>
              </a:rPr>
              <a:t>Панмиксиј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азликује се од случајног спаривањ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0099"/>
                </a:solidFill>
                <a:latin typeface="Arial"/>
              </a:rPr>
              <a:t>Случајно спаривање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ероватноћа да јединка једног пола има шансе да буде опло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на јединком другог пола код које се посматрано својство испољава на исти нач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панмиксији поред случајног спаривања потребно је 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Сваки тип укрштања даје исти број потом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Однос полова у популацији буде 1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Популација буде бесконачно велика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Разликују се два типа одступања од случајног спаривања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i="1" lang="sr-C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sr-CS" sz="2800" spc="-1" strike="noStrike">
                <a:solidFill>
                  <a:srgbClr val="0000ff"/>
                </a:solidFill>
                <a:latin typeface="Arial"/>
              </a:rPr>
              <a:t>Асортативно укрштање генотип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Позитивно (инбридинг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чешће спаривање јединки које се налазе у већем степену сродства него што се налази просечан пар јединки те популациј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Негативно (аутбридинг)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шће спаривање јединки које се налазе у мањем степену сродстава него што се налази просечан пар јединки те популациј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sr-CS" sz="2800" spc="-1" strike="noStrike">
                <a:solidFill>
                  <a:srgbClr val="0000ff"/>
                </a:solidFill>
                <a:latin typeface="Arial"/>
              </a:rPr>
              <a:t>Асортативно укрштање фенотип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Позитивн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чешће спаривање јединки код којих се посматрано својство испољава на исти/сличан начи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Негативн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чешће спаривање јединки код којих се посматрано својство испољава на различите начин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ада би популација стално одржавала генетичку структуру не би било </a:t>
            </a: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еволуциј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3320" y="2637000"/>
            <a:ext cx="8640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c0099"/>
                </a:solidFill>
                <a:latin typeface="Arial"/>
              </a:rPr>
              <a:t>Фактори еволуциј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- фактори који ремете генетичку структуру популације су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600" spc="-1" strike="noStrike">
                <a:solidFill>
                  <a:srgbClr val="000000"/>
                </a:solidFill>
                <a:latin typeface="Arial"/>
              </a:rPr>
              <a:t>Систематски и несистематски фактор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ff"/>
                </a:solidFill>
                <a:latin typeface="Arial"/>
              </a:rPr>
              <a:t>Селекција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CS" sz="2600" spc="-1" strike="noStrike">
                <a:solidFill>
                  <a:srgbClr val="000000"/>
                </a:solidFill>
                <a:latin typeface="Arial"/>
              </a:rPr>
              <a:t>систематск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ff"/>
                </a:solidFill>
                <a:latin typeface="Arial"/>
              </a:rPr>
              <a:t>Мутације, миграције, генетички дрифт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i="1" lang="sr-CS" sz="2600" spc="-1" strike="noStrike">
                <a:solidFill>
                  <a:srgbClr val="000000"/>
                </a:solidFill>
                <a:latin typeface="Arial"/>
              </a:rPr>
              <a:t>несистематск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600" spc="-1" strike="noStrike">
                <a:solidFill>
                  <a:srgbClr val="000000"/>
                </a:solidFill>
                <a:latin typeface="Arial"/>
              </a:rPr>
              <a:t>фактори еволуц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000000"/>
                </a:solidFill>
                <a:uFillTx/>
                <a:latin typeface="Arial"/>
              </a:rPr>
              <a:t>ПОПУЛАЦИЈ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Популац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је скуп јединки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исте врст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 насељавају одређено станиште у одређено време и које могу да ступе у репродукционе одно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000000"/>
                </a:solidFill>
                <a:uFillTx/>
                <a:latin typeface="Arial"/>
              </a:rPr>
              <a:t>Природна селекциј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 је фаворизација или елиминација гена или генотипова услед диференцијалног фертилитета или диференцијалног преживљавања једин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лативна репродуктивна способност јединки - 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адаптивна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вредност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(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пен смањења релативне репродуктивне способности је 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селекциони коефицијент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cc0099"/>
                </a:solidFill>
                <a:latin typeface="Arial"/>
              </a:rPr>
              <a:t>W+S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Селекција штетних доминантних ген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4920" y="206028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а је пошто у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исто време делује на дом. хомозиготе и на хетерозиго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етни доминантни ген може да буд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ff"/>
                </a:solidFill>
                <a:latin typeface="Arial"/>
              </a:rPr>
              <a:t>потпуно пенетрантан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 спречава репродукцију свих носилаца- биће елиминисан у тој генерациј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ff"/>
                </a:solidFill>
                <a:latin typeface="Arial"/>
              </a:rPr>
              <a:t>делимично пенетранта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па спречава репродукцију дела индивидуа (парцијална селекција) и непрекидно се одржава у популациј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Селекција штетних рецесивних ген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528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ра је-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делује само на рецесивне хомозиго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ликује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ff"/>
                </a:solidFill>
                <a:latin typeface="Arial"/>
              </a:rPr>
              <a:t>Селекцију против хомозигота у корист хетерозиг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ff"/>
                </a:solidFill>
                <a:latin typeface="Arial"/>
              </a:rPr>
              <a:t>Селекцију против хетерозигота у корист хомозиго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 Селекција против хомозигота у корист хетерозигота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. Српаста анемија, таласемија, дефицит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6P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рпаста анем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s- Hb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S-H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Ss-HbA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 и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 HbS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  (има селективну предност у подручју где влада малариј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Селекција против хетерозигота у корист хомозигот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24000" y="2565000"/>
            <a:ext cx="8712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sr-RS" sz="2600" spc="-1" strike="noStrike">
                <a:solidFill>
                  <a:srgbClr val="000000"/>
                </a:solidFill>
                <a:latin typeface="Constantia"/>
              </a:rPr>
              <a:t>Пр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h </a:t>
            </a:r>
            <a:r>
              <a:rPr b="0" lang="sr-RS" sz="2600" spc="-1" strike="noStrike">
                <a:solidFill>
                  <a:srgbClr val="000000"/>
                </a:solidFill>
                <a:latin typeface="Constantia"/>
              </a:rPr>
              <a:t>фактор</a:t>
            </a: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     Dd x 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1   Dd, Dd,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dd, 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У телу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h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 негативне мајке природну селективну предност имају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h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 негативни плодов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000000"/>
                </a:solidFill>
                <a:uFillTx/>
                <a:latin typeface="Arial"/>
              </a:rPr>
              <a:t>Миграције-ими и емиграције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езбеђују проток г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личина промене генетичке структуре зависи од тога колики је проток гена и колике су генетичке разлике између две популациј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меном гена популације постају сличније по својој генетичкој структур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 је начин да се у популацији појав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ови г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000000"/>
                </a:solidFill>
                <a:uFillTx/>
                <a:latin typeface="Arial"/>
              </a:rPr>
              <a:t>Мутациј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3640" y="2060280"/>
            <a:ext cx="8445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минативне мутације се преносе на потомство из генерације у генерациј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5-20% зачетих зигота заврши као спонтани побача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0% спонтаних побачаја настаје услед хромозомске аберациј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Генетички дрифт - генетичка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случајност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360" y="263700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омена учесталости генских алела у популацији може бити и резултат случај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оже настати на два начина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ff"/>
                </a:solidFill>
                <a:latin typeface="Arial"/>
              </a:rPr>
              <a:t>Стварањем изола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ff"/>
                </a:solidFill>
                <a:latin typeface="Arial"/>
              </a:rPr>
              <a:t>Губљењем ниско фреквентног генског алел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Пр. у оогенези ниско фреквентни алел се по принципу случајности распореди у полоциту и  губи се из популације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Хумане популације-становници села, једног града, једне улице..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95280" y="1915920"/>
            <a:ext cx="80661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ша врста је издељена у велики број природних популација, а највеће популационе групе су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расе човека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 (негроиди, кавказоиди и монголоид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Раса је група историјски везаних људи са заједничким фондом ге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Обухвата мањи или већи број локалних популациј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Претпоставило се да су расе настале искључиво због географске изолације,  а да су на њих деловали други чиниоци-селекција, генетички дрифт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493560" y="1371600"/>
            <a:ext cx="7894800" cy="18781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68000" y="3645000"/>
            <a:ext cx="78534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у полиморфн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лазе се у непрекидном кретањ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непрекидној интеракцији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с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са факторима средине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Генетичка структура популације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2205000"/>
            <a:ext cx="91440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омена генетичке  структуре популације резултат је прилаг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вања на нове услове среди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колико се промене изучавају у функцији времен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cc0099"/>
                </a:solidFill>
                <a:latin typeface="Arial"/>
              </a:rPr>
              <a:t>еволуциона</a:t>
            </a:r>
            <a:r>
              <a:rPr b="1" lang="sr-Latn-CS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cc0099"/>
                </a:solidFill>
                <a:latin typeface="Arial"/>
              </a:rPr>
              <a:t>популациона генетика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колико се промене изучавају у функцији просто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cc0099"/>
                </a:solidFill>
                <a:latin typeface="Arial"/>
              </a:rPr>
              <a:t>еколошка</a:t>
            </a:r>
            <a:r>
              <a:rPr b="1" lang="sr-Latn-CS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cc0099"/>
                </a:solidFill>
                <a:latin typeface="Arial"/>
              </a:rPr>
              <a:t>популациона генетика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Генетичка оптерећењ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енетичка оптерећења представљају мутације, најчешће рецесивне, које смањују релативну репродуктивну способност једи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о од најпознатијих генетичких оптерећења је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</a:rPr>
              <a:t>укрштање у блиском сродст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Постоје два приступа</a:t>
            </a:r>
            <a:r>
              <a:rPr b="1" lang="sr-RS" sz="5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78920" y="1935000"/>
            <a:ext cx="87138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rou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958) – гене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ка оптерећења  су степен см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 адаптивне вредности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просечног генотипа у поре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ењу са најбољим генотип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ff"/>
                </a:solidFill>
                <a:latin typeface="Arial"/>
              </a:rPr>
              <a:t>Dobžansk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1964)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не јединке чија адаптивна вредност се налази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испод просечне утврђене за хетерозиготе, представљају носиоце генетичких оптерећењ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Генетичка оптерећења постоје и код људи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8360" y="2743200"/>
            <a:ext cx="792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rton, Krou, Miler (1956)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основу података о мртворођеној деци израчун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летални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еквивалент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износи 2 за гамет, односно 4 за зиго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Летални еквивалент-присуство једне леталне мутације или групе делимично леталних мутација.</a:t>
            </a:r>
            <a:r>
              <a:rPr b="0" i="1" lang="sr-CS" sz="24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еханизам настанка генетичких оптерећењ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1.  Класична теор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–Krou i Kim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cc0099"/>
                </a:solidFill>
                <a:latin typeface="Arial"/>
              </a:rPr>
              <a:t>(Мутациона теориј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Већина генских локуса је у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хомозиготн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тањ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Мутацијама се генетичка оптерећења елиминишу из попул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Леталне мутације смањују вијабилност хетерозиго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-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Нове мутације доводе до настанка генетичких оптерећењ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2. Балансна теорија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5000"/>
            <a:ext cx="822960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Већина генских локуса у попилацији  је у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хетерозиготно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тањ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Главни значај се придаје балансној селекциј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Мутације су рецесивне и у хетерозиготној су комбинациј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Укрштање у блиском сродству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400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инке у блиском сродству имају већи број идентичних г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ефицијент инбридинга се израчунава по формули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/2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- степен сродств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о је вероватно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 д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 се одре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ни гени на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ћ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у хомо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готном стању,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а који во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порекло oд заједничкoг прет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клапање брака у срoдств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кoсaнгвин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1136160"/>
            <a:ext cx="54882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9280" y="1484280"/>
            <a:ext cx="826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крштање у сродству смањује релативну репродуктивну способност једи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Дарвин-ов експеримент (1876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за 8 генерација се број потомака смањио за 3x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д пац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% стер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41%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величина легла са 7 на 3 потомка, смртност до 4. недеље 45 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д бракова у сродству 40% је повећана мртвор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ност деце, а број деце са наследним малформацијама за 30% већ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Склапање брака у сродств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м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 првим ро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цима</a:t>
            </a: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4000" y="2708280"/>
            <a:ext cx="792612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rto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сарадници (1956)  су утврд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ођени недостаци су чешћи за око 4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ртворођеност за око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мирање новорођенчади за око 3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рт до пунолетства за 100% већ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тари Грци, Египћани и Јевреј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атоличка црк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кон у неким земљ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од IV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епена дозвољава склапање бр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ш закон дозвољава од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епена сродст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сторна изолација може да буде разлог за повећану фреквенцу склапања бракова у сродств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енетичку структуру популације чи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вантитативна својства јединки попул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валитативна својства јединки попул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иохемијске одлике јединки попул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ромозомски полиморфиз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e1ea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епен сродств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орција заједничких ге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роватноћа појаве хомозиго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дници 1. степе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љи-дец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ћа-сестр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иготни близанц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дници 2. степе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ичеви, ујаци, тетк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ћац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браћ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сестр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дници  3. степе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ви рођац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ћа и сестре од стричева, ујака, тета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68360" y="184464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sr-CS" sz="5400" spc="-1" strike="noStrike">
                <a:solidFill>
                  <a:srgbClr val="ffffff"/>
                </a:solidFill>
                <a:latin typeface="Arial"/>
                <a:ea typeface="Arial"/>
              </a:rPr>
              <a:t>Одређивање фреквенце генских алела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82000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1. Одређивање фреквенце алела код </a:t>
            </a:r>
            <a:r>
              <a:rPr b="1" lang="sr-CS" sz="4000" spc="-1" strike="noStrike">
                <a:solidFill>
                  <a:srgbClr val="ff0000"/>
                </a:solidFill>
                <a:latin typeface="Times New Roman"/>
              </a:rPr>
              <a:t>моногено детерминисаних особина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78920" y="2421000"/>
            <a:ext cx="86979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на Харди-Вајнбергове једначи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(AA) + 2pq (Aa) + q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(aa</a:t>
            </a: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1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10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p + q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2. Одређивање фреквенце </a:t>
            </a:r>
            <a:r>
              <a:rPr b="1" lang="sr-CS" sz="4600" spc="-1" strike="noStrike">
                <a:solidFill>
                  <a:srgbClr val="ff0000"/>
                </a:solidFill>
                <a:latin typeface="Arial"/>
              </a:rPr>
              <a:t>кодоминантних алел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56576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р 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 крвних гр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пулација садржи 3 крвне груп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3080" y="2997360"/>
          <a:ext cx="9070920" cy="3247920"/>
        </p:xfrm>
        <a:graphic>
          <a:graphicData uri="http://schemas.openxmlformats.org/drawingml/2006/table">
            <a:tbl>
              <a:tblPr/>
              <a:tblGrid>
                <a:gridCol w="2266920"/>
                <a:gridCol w="1643040"/>
                <a:gridCol w="1630440"/>
                <a:gridCol w="1631880"/>
                <a:gridCol w="1898640"/>
              </a:tblGrid>
              <a:tr h="92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енотип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енотип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 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sr-Latn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ој јединк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укупан број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Rectangle 4"/>
          <p:cNvSpPr/>
          <p:nvPr/>
        </p:nvSpPr>
        <p:spPr>
          <a:xfrm>
            <a:off x="2556000" y="6237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+ B + C = 1 (100%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Учесталост кодоминантних алела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79280" y="1600200"/>
            <a:ext cx="896472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sr-CS" sz="3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A +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особа са М кр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уп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особа са 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р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уп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особа 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р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уп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C + B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упан бр. особ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5"/>
          <p:cNvSpPr/>
          <p:nvPr/>
        </p:nvSpPr>
        <p:spPr>
          <a:xfrm>
            <a:off x="1568520" y="25178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1531800" y="4237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250920" y="1773360"/>
            <a:ext cx="3240000" cy="1368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250920" y="3500280"/>
            <a:ext cx="3313080" cy="1584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3. Одређивање фреквенце </a:t>
            </a:r>
            <a:r>
              <a:rPr b="1" lang="sr-CS" sz="4600" spc="-1" strike="noStrike">
                <a:solidFill>
                  <a:srgbClr val="ff0000"/>
                </a:solidFill>
                <a:latin typeface="Arial"/>
              </a:rPr>
              <a:t>мултипних алел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352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стем крвних груп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А алела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алела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О алела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 + q  + r = 1 (10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5200" y="5490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У једној популацији: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78920" y="2492280"/>
            <a:ext cx="8425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А + АО +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B + BO + AB +OO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%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A       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B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AB 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O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-  феноти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pr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q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2p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 (10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геноти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07960" y="203688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рвне груп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32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+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рвне груп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32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+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q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B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рвне груп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рвне груп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32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9760" y="549000"/>
            <a:ext cx="848988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Учесталости мултипних алела</a:t>
            </a:r>
            <a:r>
              <a:rPr b="0" lang="sr-CS" sz="3600" spc="-1" strike="noStrike">
                <a:solidFill>
                  <a:srgbClr val="dbf5f9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, p, q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1588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= √ 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= 1- √ B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= 1- √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4"/>
          <p:cNvSpPr/>
          <p:nvPr/>
        </p:nvSpPr>
        <p:spPr>
          <a:xfrm>
            <a:off x="1692360" y="1916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2035080" y="198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6"/>
          <p:cNvSpPr/>
          <p:nvPr/>
        </p:nvSpPr>
        <p:spPr>
          <a:xfrm>
            <a:off x="3716280" y="357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7"/>
          <p:cNvSpPr/>
          <p:nvPr/>
        </p:nvSpPr>
        <p:spPr>
          <a:xfrm>
            <a:off x="2763720" y="357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"/>
          <p:cNvSpPr/>
          <p:nvPr/>
        </p:nvSpPr>
        <p:spPr>
          <a:xfrm>
            <a:off x="3817800" y="5084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9"/>
          <p:cNvSpPr/>
          <p:nvPr/>
        </p:nvSpPr>
        <p:spPr>
          <a:xfrm>
            <a:off x="2809800" y="506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2492280" y="3500280"/>
            <a:ext cx="213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1"/>
          <p:cNvSpPr/>
          <p:nvPr/>
        </p:nvSpPr>
        <p:spPr>
          <a:xfrm>
            <a:off x="2606760" y="49276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748720" cy="11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000000"/>
                </a:solidFill>
                <a:uFillTx/>
                <a:latin typeface="Calibri"/>
              </a:rPr>
              <a:t>Квантитативна својства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огу се представити на квантитативној скали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лигено су детерминис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а њихово испољавање утиче фактор сред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Варирају у широком опсегу па се запажају преклапања у испољавању (</a:t>
            </a:r>
            <a:r>
              <a:rPr b="1" i="1" lang="sr-Latn-CS" sz="2800" spc="-1" strike="noStrike">
                <a:solidFill>
                  <a:srgbClr val="0000ff"/>
                </a:solidFill>
                <a:latin typeface="Arial"/>
              </a:rPr>
              <a:t>нема алтернативн</a:t>
            </a:r>
            <a:r>
              <a:rPr b="1" i="1" lang="sr-RS" sz="28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i="1" lang="sr-Latn-CS" sz="2800" spc="-1" strike="noStrike">
                <a:solidFill>
                  <a:srgbClr val="0000ff"/>
                </a:solidFill>
                <a:latin typeface="Arial"/>
              </a:rPr>
              <a:t> особине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. висина, тежина, ниво холестерола, крвни притиса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боја 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е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вантитативне особине остварују </a:t>
            </a: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кумулативан ефека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.боја коже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А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најцрњи црнац, а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најбељи белац, А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А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–црнац, А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мулат, А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а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b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ела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000000"/>
                </a:solidFill>
                <a:uFillTx/>
                <a:latin typeface="Arial"/>
              </a:rPr>
              <a:t>Квалитативна својств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ногено су детерминис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 њихово испољавање не утиче фактор сред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арирају у испољавањ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MN, ABO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 u="sng">
                <a:solidFill>
                  <a:srgbClr val="000000"/>
                </a:solidFill>
                <a:uFillTx/>
                <a:latin typeface="Arial"/>
              </a:rPr>
              <a:t>ABO </a:t>
            </a:r>
            <a:r>
              <a:rPr b="1" lang="sr-CS" sz="5000" spc="-1" strike="noStrike" u="sng">
                <a:solidFill>
                  <a:srgbClr val="000000"/>
                </a:solidFill>
                <a:uFillTx/>
                <a:latin typeface="Arial"/>
              </a:rPr>
              <a:t>систем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18840" y="2124000"/>
            <a:ext cx="3917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У нашој земљ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A-4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-3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-16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B-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7560" y="2124000"/>
            <a:ext cx="3917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 u="sng">
                <a:solidFill>
                  <a:srgbClr val="000000"/>
                </a:solidFill>
                <a:uFillTx/>
                <a:latin typeface="Arial Narrow"/>
              </a:rPr>
              <a:t>У Европ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ff"/>
                </a:solidFill>
                <a:latin typeface="Arial Narrow"/>
              </a:rPr>
              <a:t>А крвна г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Србија-4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Француска-30-3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Енглеска 25-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Шкотска 20-2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сланд 15-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2152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Варира и фреквенца генских алел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99"/>
                </a:solidFill>
                <a:latin typeface="Arial"/>
              </a:rPr>
              <a:t>Албиниз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ка острва-8,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леме Варега-Конго- 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орвежани и Американци-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рби-0,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вајцарци-0,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Arial"/>
              </a:rPr>
              <a:t>Апачи-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2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99"/>
                </a:solidFill>
                <a:latin typeface="Arial"/>
              </a:rPr>
              <a:t>ПТ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устралијски урођеници-7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скими-5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нци-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би-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уси-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инежани и Африканци-2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инези-1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Индијанци из Бразила-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Olivera Milošević-Đorđević</cp:lastModifiedBy>
  <dcterms:modified xsi:type="dcterms:W3CDTF">2023-01-31T18:50:06Z</dcterms:modified>
  <cp:revision>183</cp:revision>
  <dc:subject/>
  <dc:title>MUTACIJE GENA</dc:title>
</cp:coreProperties>
</file>